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5.png" ContentType="image/png"/>
  <Override PartName="/ppt/media/voltage.wav" ContentType="audio/x-wav"/>
  <Override PartName="/ppt/media/image7.jpeg" ContentType="image/jpeg"/>
  <Override PartName="/ppt/media/cashreg.wav" ContentType="audio/x-wav"/>
  <Override PartName="/ppt/media/image9.jpeg" ContentType="image/jpeg"/>
  <Override PartName="/ppt/media/image4.jpeg" ContentType="image/jpeg"/>
  <Override PartName="/ppt/media/image2.png" ContentType="image/png"/>
  <Override PartName="/ppt/media/type.wav" ContentType="audio/x-wav"/>
  <Override PartName="/ppt/media/push.wav" ContentType="audio/x-wav"/>
  <Override PartName="/ppt/media/image1.jpeg" ContentType="image/jpeg"/>
  <Override PartName="/ppt/media/image6.jpeg" ContentType="image/jpeg"/>
  <Override PartName="/ppt/media/bomb.wav" ContentType="audio/x-wav"/>
  <Override PartName="/ppt/media/chimes.wav" ContentType="audio/x-wav"/>
  <Override PartName="/ppt/media/wind.wav" ContentType="audio/x-wav"/>
  <Override PartName="/ppt/media/camera.wav" ContentType="audio/x-wav"/>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6A1DB-5E44-407B-93BE-ED8DEEF2E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B3774-1AE0-4A7D-A4A7-D4A51FC4F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20B8E-06C3-4447-B6B9-AE6B2335D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3C4A-9845-4BD6-8DFA-754BCE80C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E8B9-443A-44C4-BC62-179415C3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EE00-E43C-4122-AB63-A553D9C8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F47AC-78F9-46B2-A046-EEFA27D3C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4F1F-E052-452A-9E21-04D0625F1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5EA7-CED5-4982-8803-1CAD0F204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8E1A-1766-4D83-8AAA-445AFB8E3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0828-F5F7-4239-B1F3-ABA9B4C5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6636-CE9B-4B93-A936-1CA7819A3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FF08-7C99-41A4-9D14-F63D2D1EC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upload.wikimedia.org/wikipedia/commons/c/c5/Roasted_coffee_beans.jpg"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urlz MT"/>
              </a:rPr>
              <a:t>Africa , Camero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urlz MT"/>
              </a:rPr>
              <a:t>By Mayra Hernandez</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fade thruBlk="tru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ERONN</a:t>
            </a:r>
            <a:endParaRPr b="0" lang="en-US" sz="4400" spc="-1" strike="noStrike">
              <a:solidFill>
                <a:srgbClr val="000000"/>
              </a:solidFill>
              <a:latin typeface="Times New Roman"/>
            </a:endParaRPr>
          </a:p>
        </p:txBody>
      </p:sp>
    </p:spTree>
  </p:cSld>
  <p:transition>
    <p:fade thruBlk="true"/>
    <p:sndAc>
      <p:stSnd>
        <p:snd r:embed="rId2" name="bomb.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Exceedingly hot land with a short dry season. This belt is densely forested and includes some of the wettest places on earth. Equation rainforest dominates this region although its alteration between wet and dry and seasons make it less than the coast.</a:t>
            </a:r>
            <a:endParaRPr b="0" lang="en-US" sz="3200" spc="-1" strike="noStrike">
              <a:solidFill>
                <a:srgbClr val="000000"/>
              </a:solidFill>
              <a:latin typeface="Times New Roman"/>
            </a:endParaRPr>
          </a:p>
        </p:txBody>
      </p:sp>
    </p:spTree>
  </p:cSld>
  <p:transition>
    <p:cut thruBlk="true"/>
    <p:sndAc>
      <p:stSnd>
        <p:snd r:embed="rId2"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Times New Roman"/>
              </a:rPr>
              <a:t>Cultu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Times New Roman"/>
              </a:rPr>
              <a:t>National holidays music and dancing grows crops. The climate affects the culture by helping them by supporting it with water which helps the crops grow.</a:t>
            </a:r>
            <a:endParaRPr b="0" lang="en-US" sz="3600" spc="-1" strike="noStrike">
              <a:solidFill>
                <a:srgbClr val="000000"/>
              </a:solidFill>
              <a:latin typeface="Times New Roman"/>
            </a:endParaRPr>
          </a:p>
        </p:txBody>
      </p:sp>
    </p:spTree>
  </p:cSld>
  <p:transition>
    <p:cut thruBlk="true"/>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urlz MT"/>
              </a:rPr>
              <a:t>vegetation</a:t>
            </a:r>
            <a:endParaRPr b="0" lang="en-US" sz="66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100000"/>
              </a:lnSpc>
              <a:spcBef>
                <a:spcPts val="901"/>
              </a:spcBef>
              <a:buClr>
                <a:srgbClr val="0000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urlz MT"/>
              </a:rPr>
              <a:t>Cameroon's main crop that is grown in the country is coco , tobacco cotton bananas,  coffee, oilseed grain and timber.</a:t>
            </a:r>
            <a:endParaRPr b="0" lang="en-US" sz="3600" spc="-1" strike="noStrike">
              <a:solidFill>
                <a:srgbClr val="000000"/>
              </a:solidFill>
              <a:latin typeface="Times New Roman"/>
            </a:endParaRPr>
          </a:p>
        </p:txBody>
      </p:sp>
      <p:pic>
        <p:nvPicPr>
          <p:cNvPr id="50" name="Picture 7" descr="http://tbn0.google.com/images?q=tbn:zRo7Bi_IHkzGmM:http://upload.wikimedia.org/wikipedia/commons/c/c5/Roasted_coffee_beans.jpg">
            <a:hlinkClick r:id="rId2"/>
          </p:cNvPr>
          <p:cNvPicPr/>
          <p:nvPr/>
        </p:nvPicPr>
        <p:blipFill>
          <a:blip r:embed="rId3"/>
          <a:stretch/>
        </p:blipFill>
        <p:spPr>
          <a:xfrm>
            <a:off x="6324480" y="3657600"/>
            <a:ext cx="2514600" cy="1874880"/>
          </a:xfrm>
          <a:prstGeom prst="rect">
            <a:avLst/>
          </a:prstGeom>
          <a:ln w="0">
            <a:noFill/>
          </a:ln>
        </p:spPr>
      </p:pic>
      <p:pic>
        <p:nvPicPr>
          <p:cNvPr id="51" name="Picture 9" descr="http://tbn0.google.com/images?q=tbn:R9QJGycaLDlE7M:http://www.electricfreeze.com/art/tobacco/little_plant.jpg"/>
          <p:cNvPicPr/>
          <p:nvPr/>
        </p:nvPicPr>
        <p:blipFill>
          <a:blip r:embed="rId4"/>
          <a:stretch/>
        </p:blipFill>
        <p:spPr>
          <a:xfrm>
            <a:off x="7391520" y="2362320"/>
            <a:ext cx="1485720" cy="112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imes New Roman"/>
              </a:rPr>
              <a:t>relig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There religion is Muslim and Christian. The picture below is Abong Mobang and its protestant.approximately 40% of the population is at least nominally Christian, 20% is Muslim. The Christian population is divided by equally between catholic and protestant denominations.</a:t>
            </a:r>
            <a:endParaRPr b="0" lang="en-US" sz="3200" spc="-1" strike="noStrike">
              <a:solidFill>
                <a:srgbClr val="000000"/>
              </a:solidFill>
              <a:latin typeface="Times New Roman"/>
            </a:endParaRPr>
          </a:p>
        </p:txBody>
      </p:sp>
      <p:pic>
        <p:nvPicPr>
          <p:cNvPr id="54" name="Picture 5" descr="Church in Abong-Mbang, Cameroon"/>
          <p:cNvPicPr/>
          <p:nvPr/>
        </p:nvPicPr>
        <p:blipFill>
          <a:blip r:embed="rId2"/>
          <a:stretch/>
        </p:blipFill>
        <p:spPr>
          <a:xfrm>
            <a:off x="6477120" y="4876920"/>
            <a:ext cx="2057400" cy="1531800"/>
          </a:xfrm>
          <a:prstGeom prst="rect">
            <a:avLst/>
          </a:prstGeom>
          <a:ln w="0">
            <a:noFill/>
          </a:ln>
        </p:spPr>
      </p:pic>
    </p:spTree>
  </p:cSld>
  <p:transition>
    <p:cut thruBlk="true"/>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anguage </a:t>
            </a:r>
            <a:endParaRPr b="0" lang="en-US" sz="6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ameroon there are 24 major African language groups ,such as French and English</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ut thruBlk="true"/>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imes New Roman"/>
              </a:rPr>
              <a:t>Economy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Cameroon is one of the wealthiest African countries with a gross national product similar to  that Nigeria its powerful. Because of its oil resources and favorable agricultural conditions Cameroon has one of the best endowed primary. The  country is developing. </a:t>
            </a:r>
            <a:endParaRPr b="0" lang="en-US" sz="3200" spc="-1" strike="noStrike">
              <a:solidFill>
                <a:srgbClr val="000000"/>
              </a:solidFill>
              <a:latin typeface="Times New Roman"/>
            </a:endParaRPr>
          </a:p>
        </p:txBody>
      </p:sp>
    </p:spTree>
  </p:cSld>
  <p:transition spd="slow">
    <p:fade thruBlk="true"/>
    <p:sndAc>
      <p:stSnd>
        <p:snd r:embed="rId2" name="cashreg.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ffff"/>
            </a:gs>
            <a:gs pos="100000">
              <a:srgbClr val="ccff66"/>
            </a:gs>
          </a:gsLst>
          <a:lin ang="189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Times New Roman"/>
              </a:rPr>
              <a:t>Environment </a:t>
            </a:r>
            <a:endParaRPr b="0" lang="en-US" sz="6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imes New Roman"/>
              </a:rPr>
              <a:t>This country has a lot of air pollutions such as oil and what the cars use up with. Pollution also made by chemicals put into the river, and droughts.</a:t>
            </a:r>
            <a:endParaRPr b="0" lang="en-US" sz="4000" spc="-1" strike="noStrike">
              <a:solidFill>
                <a:srgbClr val="000000"/>
              </a:solidFill>
              <a:latin typeface="Times New Roman"/>
            </a:endParaRPr>
          </a:p>
        </p:txBody>
      </p:sp>
    </p:spTree>
  </p:cSld>
  <p:transition>
    <p:fade thruBlk="tru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21:34:44Z</dcterms:created>
  <dc:creator>all</dc:creator>
  <dc:description/>
  <dc:language>en-US</dc:language>
  <cp:lastModifiedBy>LCS_user</cp:lastModifiedBy>
  <dcterms:modified xsi:type="dcterms:W3CDTF">2008-10-27T12:57:04Z</dcterms:modified>
  <cp:revision>9</cp:revision>
  <dc:subject/>
  <dc:title>Africa , Cameroon </dc:title>
</cp:coreProperties>
</file>